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9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12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5F83-D36F-4C2D-85A1-395E86650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7F7A-21A8-4398-BF1F-F3A9B233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E55B-E0CC-4614-9142-8B7233313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AF10-BF98-421D-A6AC-5C707F284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C20E-AB5B-4E44-8423-04C7BCD20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4696-1D2A-4420-9DED-99430CF7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9D77-9471-4723-BBC7-1AA676D1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1AA6-BC52-476E-B912-EE8A1E19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A061-32D0-48B4-A935-44FB9EF5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76D7-AA60-4D80-8359-4AC8C73B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5733-4482-4937-A5E5-81104B56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7358-3CC4-4057-ABCC-8B89311E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0FCBE-0B40-4FDA-A85F-F8774640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1930-00C6-428A-B80C-278A4F94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71E9-AE6E-40C4-BEF2-3BB207FC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C8ED-5DA2-4359-9BFE-CD78D635C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4CD90-027F-4D22-9A3F-F1B3D0C43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BAD2-1A42-434A-9829-480DC3F6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5CA2-3372-4987-94C9-96D187E1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D907-4D1E-4571-9E55-EA97CDAC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4D16-4853-4BC9-BB11-A4646D5A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BABD-0B17-4424-A257-E52BB744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065C-92DD-4E70-B886-24D9AE4F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AA7F-07C6-4E66-BC13-54A65A73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D878-25A8-45C0-B039-0F195B90B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Slika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43" name="Slika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2026-F0AE-44E6-8642-2A3E863FA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3.jpeg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Mjerimo silu</a:t>
            </a:r>
            <a:br>
              <a:rPr sz="3600"/>
            </a:b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Elastična si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Slika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Grafički prikaz ovisnosti produženja opruge o sili jest pravac koji prolazi kroz ishodište koordinatnog susta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Elastično svojstvo opruge omogućuje ponavljanje mjeren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Slika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8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Mjerilo za silu-dinamome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79280" y="155736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bog čega su opruge pogodne za mjerenje si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Jednake sile uzrokuju uvijek jednaka produženja opru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da sila prestane djelovati, opruga se vrati na početnu dulji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Slika 2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116" name="Slika 1" descr=""/>
          <p:cNvPicPr/>
          <p:nvPr/>
        </p:nvPicPr>
        <p:blipFill>
          <a:blip r:embed="rId5"/>
          <a:stretch/>
        </p:blipFill>
        <p:spPr>
          <a:xfrm>
            <a:off x="5857920" y="1724040"/>
            <a:ext cx="268452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Mjerna jedinica za silu je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njutn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označava se znakom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Jedan njutn je sila kojom uteg mase 100 g isteže oprugu dinamomet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Jedan njutn je i sila kojom Zemlja privlači uteg mase 100 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Slika 2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kus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: Mjerimo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z pomoć dinamometra izmerite kolikom silom utezi čije su mase 0.1kg, 0.5kg i 1kg istežu oprugu dinamome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likom se elastičnom silom opruga opire istezanju u tim primjerima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Slika 2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78920" y="347400"/>
            <a:ext cx="8713800" cy="53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Razmisl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avedite dijelove dinamomet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ja je mjerna jedinica za sil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Rukom ste istezali oprugu silom od 20N i ona se produžila za 3cm. Kolikom silom trebate djelovati na oprugu da bi se produžila za 9c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Slika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123" name="Slika 1" descr=""/>
          <p:cNvPicPr/>
          <p:nvPr/>
        </p:nvPicPr>
        <p:blipFill>
          <a:blip r:embed="rId5"/>
          <a:stretch/>
        </p:blipFill>
        <p:spPr>
          <a:xfrm>
            <a:off x="0" y="633240"/>
            <a:ext cx="1074600" cy="11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51000" y="111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risjetite se nekoliko predmeta koji imaju svojstvo elastičnosti. Gdje sve djeluju elastične si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bungie šibenik.jpg"/>
          <p:cNvPicPr/>
          <p:nvPr/>
        </p:nvPicPr>
        <p:blipFill>
          <a:blip r:embed="rId2"/>
          <a:srcRect l="5006" t="10012" r="20650" b="0"/>
          <a:stretch/>
        </p:blipFill>
        <p:spPr>
          <a:xfrm>
            <a:off x="5076720" y="2708280"/>
            <a:ext cx="3848040" cy="3495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trampoline.jpg"/>
          <p:cNvPicPr/>
          <p:nvPr/>
        </p:nvPicPr>
        <p:blipFill>
          <a:blip r:embed="rId3"/>
          <a:stretch/>
        </p:blipFill>
        <p:spPr>
          <a:xfrm>
            <a:off x="468360" y="314172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2"/>
          <p:cNvSpPr/>
          <p:nvPr/>
        </p:nvSpPr>
        <p:spPr>
          <a:xfrm>
            <a:off x="155520" y="-1020600"/>
            <a:ext cx="21430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155520" y="-1020600"/>
            <a:ext cx="21430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6"/>
          <p:cNvSpPr/>
          <p:nvPr/>
        </p:nvSpPr>
        <p:spPr>
          <a:xfrm>
            <a:off x="155520" y="-1020600"/>
            <a:ext cx="21430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ball-01.jpg.png"/>
          <p:cNvPicPr/>
          <p:nvPr/>
        </p:nvPicPr>
        <p:blipFill>
          <a:blip r:embed="rId4"/>
          <a:stretch/>
        </p:blipFill>
        <p:spPr>
          <a:xfrm>
            <a:off x="2987640" y="2997360"/>
            <a:ext cx="2089080" cy="2087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http://img.dxcdn.com/productimages/sku_255411_4.jpg"/>
          <p:cNvPicPr/>
          <p:nvPr/>
        </p:nvPicPr>
        <p:blipFill>
          <a:blip r:embed="rId5"/>
          <a:stretch/>
        </p:blipFill>
        <p:spPr>
          <a:xfrm>
            <a:off x="2195640" y="465300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95" name="Slika 2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94920" y="1125360"/>
            <a:ext cx="8497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Elastična sila javlja se u oprugama i suprotstavlja se sili istezanj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Elastična sila produljene opruge nastoji vratiti na početnu duljinu, a skraćene ponovo produljiti.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 čemu elastična sila ovis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Slika 2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kus: Kako mjerimo sil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se dogodi s oprugom, kada objesimo ute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će se dogoditi kada uteg maknemo s oprug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će  se dogodi s oprugom, kada objesimo dva uteg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Slika 2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Slika 1" descr=""/>
          <p:cNvPicPr/>
          <p:nvPr/>
        </p:nvPicPr>
        <p:blipFill>
          <a:blip r:embed="rId1"/>
          <a:stretch/>
        </p:blipFill>
        <p:spPr>
          <a:xfrm>
            <a:off x="6005520" y="1125360"/>
            <a:ext cx="3151080" cy="4032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178920" y="718920"/>
            <a:ext cx="6480360" cy="54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se mijenja produljenje opruge ako povećavamo broj uteg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-stavi prvo jedan uteg, izmjeri produljenje ravnalom. Ponovi postupak tako svaki put dodaš jedan ute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stoji li neka pravilnost u rastezanju opru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- U tablicu u bilježnici upišite dobivene podatke i pažljivo ih uspored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Slika 2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Slika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104" name="Slika 1" descr=""/>
          <p:cNvPicPr/>
          <p:nvPr/>
        </p:nvPicPr>
        <p:blipFill>
          <a:blip r:embed="rId2"/>
          <a:stretch/>
        </p:blipFill>
        <p:spPr>
          <a:xfrm>
            <a:off x="406440" y="2335320"/>
            <a:ext cx="833112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se događalo s oprugom kada ste na nju vješali utege jednake m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stoji li povezanost između ukupnog produljenja i broja obješenih uteg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biste matematički iskazali povezanost između produljenja opruge i opterećenj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Slika 2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42472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roduženje opruge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i="1" lang="hr-HR" sz="2800" spc="-1" strike="noStrike">
                <a:solidFill>
                  <a:srgbClr val="000000"/>
                </a:solidFill>
                <a:latin typeface="Calibri"/>
              </a:rPr>
              <a:t>l 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roporcionalno je sili </a:t>
            </a:r>
            <a:r>
              <a:rPr b="0" i="1" lang="hr-HR" sz="2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koja je istež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i="1" lang="hr-HR" sz="2800" spc="-1" strike="noStrike">
                <a:solidFill>
                  <a:srgbClr val="000000"/>
                </a:solidFill>
                <a:latin typeface="Calibri"/>
              </a:rPr>
              <a:t>l = a ∙ F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gdje je </a:t>
            </a: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onstanta proporcionalnosti</a:t>
            </a: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Elastična je sila proporcionalna produženju opru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0" i="1" lang="hr-HR" sz="2800" spc="-1" strike="noStrike">
                <a:solidFill>
                  <a:srgbClr val="000000"/>
                </a:solidFill>
                <a:latin typeface="Calibri"/>
              </a:rPr>
              <a:t>Fel = k · </a:t>
            </a:r>
            <a:r>
              <a:rPr b="0" i="1" lang="el-GR" sz="2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i="1" lang="hr-HR" sz="28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gdje je </a:t>
            </a:r>
            <a:r>
              <a:rPr b="0" i="1" lang="hr-HR" sz="2800" spc="-1" strike="noStrike">
                <a:solidFill>
                  <a:srgbClr val="000000"/>
                </a:solidFill>
                <a:latin typeface="Calibri"/>
              </a:rPr>
              <a:t>k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konstanta elastičnosti opru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Kako bismo grafički prikazali da produženje opruge ovisi o sili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Slika 2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332000" y="981000"/>
            <a:ext cx="6456240" cy="5129280"/>
          </a:xfrm>
          <a:prstGeom prst="rect">
            <a:avLst/>
          </a:prstGeom>
          <a:ln w="0">
            <a:noFill/>
          </a:ln>
        </p:spPr>
      </p:pic>
      <p:pic>
        <p:nvPicPr>
          <p:cNvPr id="110" name="Slika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08:07:06Z</dcterms:created>
  <dc:creator>Mladen Vidović</dc:creator>
  <dc:description/>
  <dc:language>en-US</dc:language>
  <cp:lastModifiedBy>MArina Dumančić</cp:lastModifiedBy>
  <dcterms:modified xsi:type="dcterms:W3CDTF">2019-09-14T13:22:33Z</dcterms:modified>
  <cp:revision>160</cp:revision>
  <dc:subject/>
  <dc:title>Elastična sila</dc:title>
</cp:coreProperties>
</file>